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97310-7F36-48D3-90D3-3AEBAFEB4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B4C2-5DD4-4973-92D1-C969443C1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34F0-7B79-4D5E-AD3C-865E18059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69A3-EB23-4B41-AF35-F121E0019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5C9F8-E226-452D-9DA7-EC91B6CB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0904D-F2D8-42DB-BB4C-4F950B75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A91BF-DEF4-40A5-BAE5-3F556239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D57F2-7505-4E3E-B959-6A500614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51463-6874-47E5-8717-FFD9C86A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FE20A-628C-4279-B025-127312D8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0BE5D-CD15-49F8-9D97-0A36EEFB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3975-5AAC-4C28-BC1E-C219C9927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42F83-C942-4087-8FCD-7A4F18D4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4B350-B251-43DA-B9DC-F1EA6BF4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330A7-F471-4716-9998-8E0C2AB1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44A4C-3F3B-4554-A2FD-8A64D496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2E2F8-9382-482B-8FE6-AAB8348C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8CFF-7268-4F7B-A3CE-11C1D9FD8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0C50-07F1-4E97-A45B-1B82BC5F7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CBCD-F1F8-4587-A000-717C8BD3C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5EE7-3626-448B-B0E1-550C2DE9A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EA99-3F4E-4D14-A1DB-41C2D6936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766B-41C4-4598-BAFD-A83D0FD60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4D80B-F0F5-49C1-8F94-554E2CA46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360" y="0"/>
            <a:ext cx="9144360" cy="6615000"/>
            <a:chOff x="-360" y="0"/>
            <a:chExt cx="9144360" cy="661500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658280" y="6324480"/>
              <a:ext cx="9144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flipH="1">
              <a:off x="-360" y="65530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10480" y="6553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18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218080" y="6581520"/>
            <a:ext cx="925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53E0-1BF5-480D-A47E-5F866927153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8" descr=""/>
          <p:cNvPicPr/>
          <p:nvPr/>
        </p:nvPicPr>
        <p:blipFill>
          <a:blip r:embed="rId4"/>
          <a:stretch/>
        </p:blipFill>
        <p:spPr>
          <a:xfrm>
            <a:off x="7658280" y="6324480"/>
            <a:ext cx="914400" cy="290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 flipH="1">
            <a:off x="-360" y="65530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610480" y="6553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41200" y="6535800"/>
            <a:ext cx="376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 Reiter, LO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5327640" y="6521400"/>
            <a:ext cx="326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828960" y="6540480"/>
            <a:ext cx="462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FW + SEM-Grid @ Fast Ex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>
            <a:lum bright="6000"/>
          </a:blip>
          <a:srcRect l="0" t="2447" r="0" b="1224"/>
          <a:stretch/>
        </p:blipFill>
        <p:spPr>
          <a:xfrm>
            <a:off x="684360" y="1239840"/>
            <a:ext cx="7853040" cy="4995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dt" idx="2"/>
          </p:nvPr>
        </p:nvSpPr>
        <p:spPr>
          <a:xfrm>
            <a:off x="215640" y="6582960"/>
            <a:ext cx="1904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3"/>
          </p:nvPr>
        </p:nvSpPr>
        <p:spPr>
          <a:xfrm>
            <a:off x="2176200" y="6582960"/>
            <a:ext cx="5305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4"/>
          </p:nvPr>
        </p:nvSpPr>
        <p:spPr>
          <a:xfrm>
            <a:off x="8218080" y="6581520"/>
            <a:ext cx="925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4458-702D-4445-A591-C239BE73DC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360" y="0"/>
            <a:ext cx="9144360" cy="6615000"/>
            <a:chOff x="-360" y="0"/>
            <a:chExt cx="9144360" cy="661500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7658280" y="6324480"/>
              <a:ext cx="9144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flipH="1">
              <a:off x="-360" y="65530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10480" y="6553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118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380520" y="75960"/>
            <a:ext cx="8396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m Time Summary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15th August 20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38040" y="2293920"/>
            <a:ext cx="766296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66"/>
                </a:solidFill>
                <a:latin typeface="Arial"/>
              </a:rPr>
              <a:t>Test of QFW and SEM-Grid GHTPDG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66"/>
                </a:solidFill>
                <a:latin typeface="Arial"/>
              </a:rPr>
              <a:t>with fast extraction at HTP beam 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Reiter, H. Bräuning, B. Walasek-Höhn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B2012-9675-4871-83F6-6A768A1074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m Spot: GHTPDF2 &amp; CUPID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tart measurement - 9E7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263600"/>
            <a:ext cx="7348680" cy="403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29510-8B08-42B3-BB8C-1581ACED2C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file: GHTPDG2 &amp; LEBTProfile GUI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9E7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561816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HIGH sensi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o profile det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220760"/>
            <a:ext cx="734544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EB9B-7343-41C6-9339-9FACD45EB6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OT Analy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1338120"/>
            <a:ext cx="426708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)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FW records 200 time sl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 20 µs width per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 (counts and offsets) are stor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SII file and analysed off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3303720"/>
            <a:ext cx="4303800" cy="2917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15000" y="3313080"/>
            <a:ext cx="4329000" cy="2935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102280" y="2235240"/>
            <a:ext cx="369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47680" y="1319040"/>
            <a:ext cx="439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) Profiles / Proj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ack: Projection of al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lue: Projection for slices in range [50,8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blue histograms are then stored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 2D histo „Wire ID vs. Cycles No.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see next sl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D454-F391-402F-8394-F1B436C93A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ormalised profiles (slices 50-80) all cycles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5E9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78160" y="1252440"/>
            <a:ext cx="226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 = 4.6E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Profiles integr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over slices [50,80]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50 cy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Normalised pro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reference = 1st 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rge of cyc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301760"/>
            <a:ext cx="6834240" cy="441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0" t="0" r="0" b="3315"/>
          <a:stretch/>
        </p:blipFill>
        <p:spPr>
          <a:xfrm>
            <a:off x="6246720" y="4413240"/>
            <a:ext cx="2897280" cy="1898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96640" y="57625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end R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186600">
            <a:off x="3440880" y="55227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re ID (not position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889200">
            <a:off x="704520" y="54669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ycl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914040" y="5291280"/>
            <a:ext cx="136044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FE3B-45B2-48C0-8E48-23A60D5EFF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ormalised profiles (slices 50-80) all cycles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1.5E9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01920" y="1266840"/>
            <a:ext cx="22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 = 1.0E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hl schlanker als vorh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292400"/>
            <a:ext cx="6834240" cy="4411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0" r="0" b="4532"/>
          <a:stretch/>
        </p:blipFill>
        <p:spPr>
          <a:xfrm>
            <a:off x="6303960" y="4481640"/>
            <a:ext cx="2840040" cy="1838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955560" y="46623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end R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9D2B-30DC-40F3-A465-1D4F3B5A6F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ormalised profiles (slices 50-80) all cycles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1.8E8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0" y="1274760"/>
            <a:ext cx="230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=1.76E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set~20 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260360"/>
            <a:ext cx="6834240" cy="441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351480" y="4403880"/>
            <a:ext cx="2792520" cy="1893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966360" y="42386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end R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A338-A1FB-417F-9498-99D0B1DAE4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ormalised profiles (slices 50-80) all cycles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4E8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94000" y="1260360"/>
            <a:ext cx="22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 = 3.3E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set~20 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m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R Strahlfüh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ahl wieder breit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3480" y="1279440"/>
            <a:ext cx="6833880" cy="4411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431040" y="4457880"/>
            <a:ext cx="2712960" cy="1839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90400" y="42609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end R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0E6D-F0E7-4728-9F4A-5E3EF8A9A5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ormalised profiles (slices 50-80) all cycles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3E8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16240" y="1263600"/>
            <a:ext cx="23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 = 2.7E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set~20 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266840"/>
            <a:ext cx="6834240" cy="4411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351480" y="4424400"/>
            <a:ext cx="2792520" cy="1893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944400" y="56768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end R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94B4-906E-427E-8557-5F7174E8CF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ormalised profiles (slices 50-80) all cycles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9E7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4160" y="1278000"/>
            <a:ext cx="231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 = 8.4E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set~20 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249200"/>
            <a:ext cx="6834240" cy="4411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286680" y="4359240"/>
            <a:ext cx="2857320" cy="1938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912720" y="56530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end R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EB00-C68E-4B32-86C4-C2B6E93330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parison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onte Carlo Model – SEM Profile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393560"/>
            <a:ext cx="39290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measured (blue, red) pro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e compared against the RO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te Carlo simulation of the S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mission for a DG090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SEM yield is based o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rnglass theory &amp; Atima energy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The input distribution was deriv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from a beam spot image of GHTPDF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installed in front of GHTPDG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Simulation and experiment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normalised to 1E8 incident N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particles of 300 MeV/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0" r="7879" b="0"/>
          <a:stretch/>
        </p:blipFill>
        <p:spPr>
          <a:xfrm>
            <a:off x="3998880" y="1693800"/>
            <a:ext cx="5145120" cy="3787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79800" y="131904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FW counts (250 fC/count) &amp; 1E8 Ni / pu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20960" y="561024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The agreement is acceptable for purpo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of SEM grid profile &amp; yield calc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24B2-4745-4CDA-8EA8-F321BA9154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Beam Parame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on species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i, 26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nergy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300 MeV/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xtraction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ast, h=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article no.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E7 – 5E9 (6 runs of 50 cycles eac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1BBD-DF8F-4A2B-9C83-81E1A955D2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parison Simulation – Experimen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or 4 cy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8056" r="0" b="0"/>
          <a:stretch/>
        </p:blipFill>
        <p:spPr>
          <a:xfrm>
            <a:off x="365040" y="1255680"/>
            <a:ext cx="3979800" cy="2481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0" t="7295" r="0" b="0"/>
          <a:stretch/>
        </p:blipFill>
        <p:spPr>
          <a:xfrm>
            <a:off x="4406760" y="1233360"/>
            <a:ext cx="3980160" cy="2502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76200" y="3735360"/>
            <a:ext cx="3979800" cy="2698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384800" y="3711600"/>
            <a:ext cx="3979800" cy="269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E928-ADAC-4C20-95BD-9F60D8A9CF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EM-Grid DG090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imulation Inpu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218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ometry in ROOT simulation (TGometryManager) &amp; Input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12825" t="0" r="13719" b="0"/>
          <a:stretch/>
        </p:blipFill>
        <p:spPr>
          <a:xfrm>
            <a:off x="0" y="2597040"/>
            <a:ext cx="4492800" cy="3862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65520" y="3324240"/>
            <a:ext cx="4578480" cy="3103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1908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ew onto asymmetric wire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beam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51280" y="19144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vents sampled from 2D distribution measured by Cromox sc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 adjustment ~1m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EE04-1504-4D54-A17D-78A24A3C49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cc"/>
                </a:solidFill>
                <a:latin typeface="Arial"/>
              </a:rPr>
              <a:t>FESA readout was easy to use and worked reliab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ython module DevAcc is also very nice and reliabl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cc"/>
                </a:solidFill>
                <a:latin typeface="Arial"/>
              </a:rPr>
              <a:t>QFW sensitivity limit  ~1E8 particles for 300 MeV/u Nickel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his limit was expected from the SEM yield estimate (Sternglass mod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cc"/>
                </a:solidFill>
                <a:latin typeface="Arial"/>
              </a:rPr>
              <a:t>The comparison between Monte Carlo simulation and experiment data is good in the present case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(typical deviations &lt; factor 2 where simulation tends to overpredict the yiel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F577-56E1-418E-9F0F-6BEC3A0887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Resonant Transformer GHTPDT1 to monitor particle numbers via Python script (using CSCO Python module „devacc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Cromox Screen &amp; SEM-Grid GHTPDG2 in same chamber; SCR images for comparison to SEM-Gri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FESA readout of 5 QFW units at HTP with modified LEBTProfil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SFP2: 2 units for SEM-Grid GHTPDG2 with stretcher X+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FP1: 2 units for GHTPDG3G (SEM-Grid in air) with stretcher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FP0: 1 unit for AirBPM (in AP container, ~75m RG214 cab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FW paramete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W delay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4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me slices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tal window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 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BFAD-2F73-4263-9803-C1BD37ADEB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creensho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73AF5-F95B-432B-9BFD-CC09A15969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m Spot: GHTPDF2 &amp; CUPID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tart measurement - 4E9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236600"/>
            <a:ext cx="6108840" cy="488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FD85-8E00-4E97-A033-FF76873D38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file: GHTPDG2 &amp; LEBTProfile GUI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5E9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526860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HIGH sensitivity (250 fC/cou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ffset was adjusted prior to measurement and subtracted in G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uring beam the offset/noise level drops (negative shif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212840"/>
            <a:ext cx="7345440" cy="4038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337160" y="1625760"/>
            <a:ext cx="168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al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integra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 time sli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files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time sl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C35F-D389-4C1B-818E-10BF4DD700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file: GHTPDG2 &amp; LEBTProfile GUI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1.5E9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216080"/>
            <a:ext cx="7345440" cy="4038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003640" y="1779480"/>
            <a:ext cx="22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ad channel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49920" y="2143080"/>
            <a:ext cx="349200" cy="77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33720" y="2122560"/>
            <a:ext cx="477720" cy="7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8AFC-71E4-48D0-A2FD-D4C61FBEBD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file: GHTPDG2 &amp; LEBTProfile GUI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4E8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561816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HIGH sensi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etection limit for „reasonable profile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243080"/>
            <a:ext cx="734544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DE17-1F3A-47AF-9115-DE9DB42ABD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file: GHTPDG2 &amp; LEBTProfile GUI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3E8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561816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HIGH sensi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etection limit for „reasonable profile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198440"/>
            <a:ext cx="734544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036B-EDB0-4EA4-9145-84532EA92D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3:53:23Z</dcterms:created>
  <dc:creator>schwicke</dc:creator>
  <dc:description/>
  <dc:language>en-US</dc:language>
  <cp:lastModifiedBy>Andreas Reiter </cp:lastModifiedBy>
  <cp:lastPrinted>2002-09-19T14:00:30Z</cp:lastPrinted>
  <dcterms:modified xsi:type="dcterms:W3CDTF">2014-11-04T09:28:46Z</dcterms:modified>
  <cp:revision>186</cp:revision>
  <dc:subject/>
  <dc:title>Welcom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05381157</vt:r8>
  </property>
  <property fmtid="{D5CDD505-2E9C-101B-9397-08002B2CF9AE}" pid="3" name="_AuthorEmail">
    <vt:lpwstr>M.Schwickert@gsi.de</vt:lpwstr>
  </property>
  <property fmtid="{D5CDD505-2E9C-101B-9397-08002B2CF9AE}" pid="4" name="_AuthorEmailDisplayName">
    <vt:lpwstr>Schwickert Marcus</vt:lpwstr>
  </property>
  <property fmtid="{D5CDD505-2E9C-101B-9397-08002B2CF9AE}" pid="5" name="_EmailSubject">
    <vt:lpwstr>Vorträge MiniTAC</vt:lpwstr>
  </property>
  <property fmtid="{D5CDD505-2E9C-101B-9397-08002B2CF9AE}" pid="6" name="_ReviewingToolsShownOnce">
    <vt:lpwstr/>
  </property>
</Properties>
</file>